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8D30-A851-46A6-BDBB-635F9F75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65A2-82D1-48F0-B141-96651943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4DDB32-A4A6-4C0B-BAA9-B3FF1B3A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7FFEDA-2E79-4F5A-BDDE-F2C46D5B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917B4-0756-4961-AB93-221BA065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6BECF-BD68-4370-B609-319D858F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92939C-E510-43AB-819B-17A2C1DE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239DDE-B8C6-4539-873D-F4E30D27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26A8D-F58D-4D8D-B676-3A2176CA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933A83-58C1-47AD-BD36-20BB0287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F86ACC-94EB-442D-91AC-51B282C2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885955-4F7A-44D1-B3B6-7DFDB963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D0A2-EB09-4BEA-B0A3-B4464F98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72680-B8E8-4091-90FA-B22458E8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B390A-F4BA-4945-97D3-8B1945FD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C068E1-6365-462C-BE6B-B746C915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2DCB31-9FB2-405C-B586-08932E94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4E6909-43AF-45C2-9045-B827F1FD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2A1979-6E94-44C0-8354-F50B53C1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D7CC40-5F36-41ED-9896-E0A4CF67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43D3D2-8E84-47B1-BC18-A9DBBF9E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59C6E3-D054-4885-9CF2-FA69E6D7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6AFB20-C94E-44AC-8BC5-3E9CA15C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4740-66C2-4F66-BB77-C3E51C4B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A080B8-16D9-4911-8FDE-37FC94D7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942B2-DD43-4BF1-A9CF-54A419CE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8386D-3CAC-4CF3-98E1-053BE33A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BA18B-D181-46D1-8706-FD3E9D42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3FFE0-44A5-4206-917A-231FF10A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AD0E8-805E-49B6-ADF9-F3986C8C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68279-7B7D-43AD-AB2B-ADB48DA0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785FE-FB8D-43D5-9FA6-F28AD388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54A43-7021-451A-BDDB-D23076A0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E9406-A677-4CF5-AE93-DDD6640D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9092-1157-4206-8056-CCE6B0D9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43B2F-6CE5-4552-ABF5-E147C39C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C739E-15D5-40C7-ACA5-FD03BF30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E9BB1-D265-4C5E-846F-11EAFAB0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5389A0-CE6B-4B7A-843A-89510F76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6CE991-70AD-4941-8E8D-8804F9E2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A9EDE-2CBD-4492-A7B0-055D9F3E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CEF21C-C9B6-44D9-8AEA-688FEE61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6566DA-41AE-4244-8CCF-74B93531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37BC71-D8CD-452B-B1F9-96E65F0F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DDA1D4-EBEA-42E7-BCE7-05B840F1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D70E-52E4-4107-9B51-5B7FD674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0A633A-9F66-4CC9-B11C-57B93FA0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5A509D-EE22-4988-B08D-09637857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14764F-BA26-4D6E-9BFA-9CD357A1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99DF3C-B050-4F75-87A8-50A3E889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15B68B-8D63-4EC5-9360-CAD824CB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DE08-D9D8-40CD-8BD8-468FB6DD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EA2A-53C1-4C4E-9B2A-55F4B11D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847B-3B16-432A-9D50-34110F6F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05F1-F3D0-4FC9-BD7B-12AE1021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3A46-5732-4D6D-BB31-5328BB64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D203-0E50-475C-B682-064BDD5F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36A6-ADD4-444D-947D-207DBF05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036C-BD3F-4977-A753-C9595D07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413E-BA97-4D16-97FB-8C5B50EA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805A-A49E-484B-98DA-388991F9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F1FA-2ABE-4F15-A89F-905B8BC7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0D079-5062-4AEC-A182-FB876F03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0BA8A-1FCD-4E08-BB80-EAAADE6E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5C470-2202-4883-A51E-DC48543E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5572D-9295-4039-A695-6E88D53E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83D12-6791-4757-9697-7623A30E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F9DF-A49A-4BFB-AE67-85FAB847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D4A8F-7DE1-4096-BFFB-851B17CF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6C805-100F-463C-9C6E-FCB2A55E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C6D76-6CFE-46DA-BA08-5320DE72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B6C29-9E1F-4AA7-9417-B5EC8E8E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82F38-2C9D-4C4A-9641-4FAC3217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7E5E8-347F-4528-ABC1-43DE46A3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E60D3-B1DE-4FC9-A16A-F30EF518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271B1-9912-446C-84AA-217FB400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D4C2F-6185-4EFC-8F6D-F5FE60C5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07886-0277-4508-9053-E4654040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674-06DE-48AD-B6CA-B7D39EEA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1FE77-D895-4E9C-BD74-A2DAC5FD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FEE84-2FFC-4FA2-881C-617C5F35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2AE6E-BC96-409E-9427-E25D6547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35DEA-907C-4B33-8892-39D39387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17525-1792-4126-874B-9D9E4926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C3B88-9984-4567-A450-D53042FD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7C1DA-ECBD-4C98-8280-024089EC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EA396-604F-48BC-A6B8-598A1C69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E0912-798B-4FBE-9E0B-DC7944FD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67618-D4AF-465E-9361-21A97758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E28-4776-4CE8-9713-96C999B8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6B785-158A-4305-BC5C-8BBEBCDE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34283-00B9-4763-B326-9A92B545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3A932-63F7-4DD3-B864-88F0D17F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77C84-BD54-428E-8B4E-00435F64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DDE93-B7D0-45E3-B4DD-CC3741F7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2E5E6-84E9-4DAC-89E3-227F1D17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956CA-FBCF-465B-9F52-D27BA0D3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B8C36-C4E6-4395-8371-9C14ACA4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F7BA1-FE24-4585-B5AC-2E263001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12040-CC78-4BD9-A1DD-D65A1C0D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E5B-D03A-41BB-8521-553DC36A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910DE-FFCD-4FCD-BEF6-F03B5255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015BD-7F8A-485B-B5D1-E29370E8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EE840-3BE0-46AA-9E34-A0069ECC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FF45E-3D19-476E-8919-0E22E183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2C009-0497-4223-9DE1-2773F646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8FDF2-CD79-4603-9A72-91D779B2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53668-02A1-4C8C-AF4A-1DD22942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8F3FC-C012-4945-9343-165B4979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EAAF0-76C3-47ED-9411-5FBBEAD4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76F6F-9780-4090-A21C-9E6F5B9A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0B8F-2E17-46EE-A2B6-235538D3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497BE-A642-47AA-B975-99304E4A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4D206-5758-44EB-9E1E-CCF181AC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BA0C1-67AF-4483-A5B5-554B48DF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35C36-3F33-412C-A6F6-1B1D5F0E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D8C38-6208-43FB-B41E-EF0D7CF8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6E3D2-C3BA-41CE-93AA-BE7F5812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9F20D-D998-485F-8C99-18A2538B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FA307-FE49-467C-A04F-419AF9CB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38B24-316D-4314-976D-0CAF0E47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5F14F-B49A-40D1-A74B-4E8080BA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FC38-C4E2-43D4-981E-0B2ED18B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F9A66-1D43-4150-AEB7-C02C2062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57E58-0C48-40D1-82F1-13BBC6B2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29C38-E1A1-467F-B6D5-52B3DF0F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FFEF8-16A2-41AC-8A56-CE0CBA3D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D4A33-9279-426F-8B49-E02790CC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CFC58-C2A5-48FC-B186-F253D2AF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7D16B-2C1B-4D22-B50E-7703F2F2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95BA6-4D9B-4689-AB87-92A28F20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8C260-547E-42FA-A14F-6F698D81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6A6FC-5CA9-4200-B468-22B8F816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3AE5-1F82-49FF-9479-CA39CF1F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577AC-8BBA-47BB-B141-2E48833D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8B84E-6953-4186-8ECC-27BB45AB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B8257-1EB4-46DB-8A88-CEC02916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B608C-3961-4E6D-92A0-9E24CD42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21F32-0905-449F-94F3-D566E09C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6AEC3-F2C9-4026-A8BA-2018D1AA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AA291-9CA3-4CE3-8142-665E1E27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5AB435-A3E0-49FA-9048-0AFD83DF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DFDBB-8101-4109-AAEC-E5236EBC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DCF7B2-9A43-4EEF-A043-88C50EFB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26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261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2251-039E-45BA-9CEB-C6699B5E5C7F}" type="slidenum">
              <a:rPr b="0" lang="en-US" sz="1600" spc="-1" strike="noStrike">
                <a:solidFill>
                  <a:srgbClr val="88261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2d1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b2d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26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2d1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b2d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261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E371-D77E-4453-A8F5-18E0E8B86DD3}" type="slidenum">
              <a:rPr b="0" lang="en-US" sz="1600" spc="-1" strike="noStrike">
                <a:solidFill>
                  <a:srgbClr val="88261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6c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26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2d1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b2d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261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C480-252F-4468-A909-B217EDBDDB65}" type="slidenum">
              <a:rPr b="0" lang="en-US" sz="1600" spc="-1" strike="noStrike">
                <a:solidFill>
                  <a:srgbClr val="88261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6c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26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2d1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b2d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261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9C49-8817-4D58-8012-2D84AECCC644}" type="slidenum">
              <a:rPr b="0" lang="en-US" sz="1600" spc="-1" strike="noStrike">
                <a:solidFill>
                  <a:srgbClr val="88261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6c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26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2d1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b2d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261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347A-6880-4336-9580-A01C0F8B2830}" type="slidenum">
              <a:rPr b="0" lang="en-US" sz="1600" spc="-1" strike="noStrike">
                <a:solidFill>
                  <a:srgbClr val="88261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6c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26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2d1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b2d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261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C5F9-2248-4DFB-B56C-7F9A57BF8A7E}" type="slidenum">
              <a:rPr b="0" lang="en-US" sz="1600" spc="-1" strike="noStrike">
                <a:solidFill>
                  <a:srgbClr val="88261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26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2d1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b2d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261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6528-D178-40D7-A660-F6B024C1B140}" type="slidenum">
              <a:rPr b="0" lang="en-US" sz="1600" spc="-1" strike="noStrike">
                <a:solidFill>
                  <a:srgbClr val="88261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6c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26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9b2d1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2d1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b2d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261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ED8D-FE93-4FDE-BFE8-9EF4C91F2F02}" type="slidenum">
              <a:rPr b="0" lang="en-US" sz="1600" spc="-1" strike="noStrike">
                <a:solidFill>
                  <a:srgbClr val="88261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6c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9b2d1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26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2d1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b2d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261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9334-229F-4E64-BCCF-094DC25B02B1}" type="slidenum">
              <a:rPr b="0" lang="en-US" sz="1600" spc="-1" strike="noStrike">
                <a:solidFill>
                  <a:srgbClr val="88261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26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2d1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b2d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261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6E9D-B225-4A28-8962-0B2489B9A714}" type="slidenum">
              <a:rPr b="0" lang="en-US" sz="1600" spc="-1" strike="noStrike">
                <a:solidFill>
                  <a:srgbClr val="88261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2d1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b2d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FCEF-B45F-4160-8BE1-DBD19C312E8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26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2d1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b2d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261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5A9F-4076-4F7E-9F92-24234054D325}" type="slidenum">
              <a:rPr b="0" lang="en-US" sz="1600" spc="-1" strike="noStrike">
                <a:solidFill>
                  <a:srgbClr val="88261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Y: BECCA ROGGENBUCK 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ERIOD: 8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d1f"/>
                </a:solidFill>
                <a:latin typeface="Georgia"/>
              </a:rPr>
              <a:t>Weihnachten in Germany</a:t>
            </a:r>
            <a:endParaRPr b="0" lang="en-US" sz="4200" spc="-1" strike="noStrike">
              <a:solidFill>
                <a:srgbClr val="88261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Answers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e answers are….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1. b) 14</a:t>
            </a:r>
            <a:r>
              <a:rPr b="0" lang="en-US" sz="2700" spc="-1" strike="noStrike" baseline="30000">
                <a:solidFill>
                  <a:srgbClr val="ffffff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century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2. c) stollen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Sources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http://www.germanfoods.org/consumer/facts/christmastraditions.cfm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http://www.vistawide.com/german/christmas/german_christmas_traditions.htm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http://tlc.howstuffworks.com/family/christmas-traditions-around-the-world-ga6.htm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http://storybookwoods.typepad.com/storybook_woods/images/advent_main.gif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http://www.germany-insider-facts.com/image-files/german-christmas-markets-jena.jpg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http://dhsdeutsch.weebly.com/uploads/1/2/6/2/1262224/7065578_orig.jpg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http://www.spangdahlem.af.mil/news/story.asp?id=123179919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Adven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Advent is started at the beginning of December.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Germans have advent calendars for the children where they open a window each day and receive a small piece of chocolate.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Germans also put up advent wreaths to start the Advent season.  They gather every Sunday and light a candle on the wreath and sing Christmas carols.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hristmas Markets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As Advent season begins, the Christmas Markets also open in all towns across Germany.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People gather in the towns square where a band is usually playing during the market  time. Lots of hot drinks such as apple cider or beer is sold along with cookies and gingerbread.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ese markets originated in the 14</a:t>
            </a:r>
            <a:r>
              <a:rPr b="0" lang="en-US" sz="2700" spc="-1" strike="noStrike" baseline="30000">
                <a:solidFill>
                  <a:srgbClr val="ffffff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century and were created to sell seasonal items to celebrate holidays such as Christmas.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Advent Calendar and Christmas Marke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14" name="Picture 2" descr="http://storybookwoods.typepad.com/storybook_woods/images/advent_main.gif"/>
          <p:cNvPicPr/>
          <p:nvPr/>
        </p:nvPicPr>
        <p:blipFill>
          <a:blip r:embed="rId1"/>
          <a:stretch/>
        </p:blipFill>
        <p:spPr>
          <a:xfrm>
            <a:off x="1066680" y="2590920"/>
            <a:ext cx="3353040" cy="37544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http://www.germany-insider-facts.com/image-files/german-christmas-markets-jena.jpg"/>
          <p:cNvPicPr/>
          <p:nvPr/>
        </p:nvPicPr>
        <p:blipFill>
          <a:blip r:embed="rId2"/>
          <a:stretch/>
        </p:blipFill>
        <p:spPr>
          <a:xfrm>
            <a:off x="4038480" y="1600200"/>
            <a:ext cx="4648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hristmas Tree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eorgia"/>
              </a:rPr>
              <a:t>Traditionally, the Christmas tree is never set up until Christmas Eve where the family gathers and decorates the tree.  The tree is taken down around January 1</a:t>
            </a:r>
            <a:r>
              <a:rPr b="0" lang="en-US" sz="2500" spc="-1" strike="noStrike" baseline="30000">
                <a:solidFill>
                  <a:srgbClr val="ffffff"/>
                </a:solidFill>
                <a:latin typeface="Georgia"/>
              </a:rPr>
              <a:t>st</a:t>
            </a:r>
            <a:r>
              <a:rPr b="0" lang="en-US" sz="2500" spc="-1" strike="noStrike">
                <a:solidFill>
                  <a:srgbClr val="ffffff"/>
                </a:solidFill>
                <a:latin typeface="Georgia"/>
              </a:rPr>
              <a:t> or 6</a:t>
            </a:r>
            <a:r>
              <a:rPr b="0" lang="en-US" sz="2500" spc="-1" strike="noStrike" baseline="30000">
                <a:solidFill>
                  <a:srgbClr val="ffffff"/>
                </a:solidFill>
                <a:latin typeface="Georgia"/>
              </a:rPr>
              <a:t>th</a:t>
            </a:r>
            <a:r>
              <a:rPr b="0" lang="en-US" sz="2500" spc="-1" strike="noStrike">
                <a:solidFill>
                  <a:srgbClr val="ffffff"/>
                </a:solidFill>
                <a:latin typeface="Georgia"/>
              </a:rPr>
              <a:t>. </a:t>
            </a: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eorgia"/>
              </a:rPr>
              <a:t>Traditional ornaments used on Christmas trees are cookies and candies.  On New Year’s Day the children are able to eat the candies and cookies from the tree. </a:t>
            </a: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eorgia"/>
              </a:rPr>
              <a:t>The first known Christmas tree to be set up was in Freiburg in 1419. </a:t>
            </a: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St. Nikolaus 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t. Nikolaus’s Day is celebrated on December 6</a:t>
            </a:r>
            <a:r>
              <a:rPr b="0" lang="en-US" sz="2700" spc="-1" strike="noStrike" baseline="30000">
                <a:solidFill>
                  <a:srgbClr val="ffffff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in Germany.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e children set out their newly polished shoes in wait for St. Nikolaus to come and put sweets, fruits, nuts, and chocolate in their shoes; as long as they were good.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t. Nikolaus was originally a bishop but he soon was known as a protector of children and an anonymous gift giver to them.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St. Nikolaus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22" name="Picture 4" descr="http://dhsdeutsch.weebly.com/uploads/1/2/6/2/1262224/7065578_orig.jpg"/>
          <p:cNvPicPr/>
          <p:nvPr/>
        </p:nvPicPr>
        <p:blipFill>
          <a:blip r:embed="rId1"/>
          <a:stretch/>
        </p:blipFill>
        <p:spPr>
          <a:xfrm>
            <a:off x="457200" y="1447920"/>
            <a:ext cx="3819600" cy="36288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Sankt Nikolaus"/>
          <p:cNvPicPr/>
          <p:nvPr/>
        </p:nvPicPr>
        <p:blipFill>
          <a:blip r:embed="rId2"/>
          <a:stretch/>
        </p:blipFill>
        <p:spPr>
          <a:xfrm>
            <a:off x="4114800" y="3124080"/>
            <a:ext cx="43894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Traditional Food and Drinks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A traditional drink in German on a cold day is Glühwein, hot mulled red wine with a possible shot of  brandy.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ome popular foods to eat during Christmas in Germany is: duck, goose, rabbit, roast,  apple stuffing,  chocolate, gingerbread, and stollen.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ruitcake was adapted from stollen;  stollen usually consists of nuts and fruit.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Questions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hristmas markets originated in what century: 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a) 15</a:t>
            </a:r>
            <a:r>
              <a:rPr b="0" lang="en-US" sz="2700" spc="-1" strike="noStrike" baseline="30000">
                <a:solidFill>
                  <a:srgbClr val="ffffff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century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b) 14</a:t>
            </a:r>
            <a:r>
              <a:rPr b="0" lang="en-US" sz="2700" spc="-1" strike="noStrike" baseline="30000">
                <a:solidFill>
                  <a:srgbClr val="ffffff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century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) 16</a:t>
            </a:r>
            <a:r>
              <a:rPr b="0" lang="en-US" sz="2700" spc="-1" strike="noStrike" baseline="30000">
                <a:solidFill>
                  <a:srgbClr val="ffffff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century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ruitcake is an adaptation of what baked good: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a) gingerbread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b) angel food cake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) stollen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Georg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7:47:45Z</dcterms:created>
  <dc:creator>Becca</dc:creator>
  <dc:description/>
  <dc:language>en-US</dc:language>
  <cp:lastModifiedBy>Becca</cp:lastModifiedBy>
  <dcterms:modified xsi:type="dcterms:W3CDTF">2011-10-26T03:09:33Z</dcterms:modified>
  <cp:revision>10</cp:revision>
  <dc:subject/>
  <dc:title>Slide 1</dc:title>
</cp:coreProperties>
</file>